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11.gif" ContentType="image/gif"/>
  <Override PartName="/ppt/media/image7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D06-DA27-4D74-A90F-C9859872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960-8E56-4530-B427-9410356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50F-F010-486B-91AB-C5266DBC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F52-C5FD-4C06-8940-F71E1569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037-574C-45A4-B11A-E1C41160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6B5D-B96D-40E4-8F6D-98F6F8AA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8BCF-2E5B-4962-A1A9-2F3F526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A9B-3442-4A55-98B0-0D91F2D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2055-454F-49F8-8FDA-20F3716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2358-6932-4757-90A2-197EA47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2E35-96CA-4346-811C-467D6FB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0DA-3B8D-49E8-8999-02372C8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004-B69A-45A0-A78B-78B3AFD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F1F5-7AEF-4BB6-99BD-39DA34C0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5DA5-A5B0-425D-868D-43AF2BB0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50A1-35A3-48C2-A432-6E949B9B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C6C-957D-488C-8ACC-55D4AA20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6E1-1540-4BEB-851F-B40EFFA5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4A0-EAA5-447C-B94D-95D3A0E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0F0-58F4-4808-B3EA-76FB4615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8D8-7AC1-4E20-82A3-1A3EFBAD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7E6-6926-4B6C-8B5B-0D5F609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563-7396-4222-AC76-FE966AD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53D-60A2-4704-97FB-1A8DCC6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D457-D6A1-46BC-B274-315E11D14F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PTAP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4DD-6D62-4C8F-9D03-5EBC46939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E6D-4331-4C02-8164-175805A342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PTAP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9446-5599-47CA-9444-77485AC0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21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br>
              <a:rPr sz="7200"/>
            </a:br>
            <a:br>
              <a:rPr sz="7200"/>
            </a:b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4" descr="AG00488_"/>
          <p:cNvPicPr/>
          <p:nvPr/>
        </p:nvPicPr>
        <p:blipFill>
          <a:blip r:embed="rId1"/>
          <a:stretch/>
        </p:blipFill>
        <p:spPr>
          <a:xfrm>
            <a:off x="2362320" y="2895480"/>
            <a:ext cx="49528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25760" y="8380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learn abou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6600ff"/>
                </a:solidFill>
                <a:latin typeface="Times New Roman"/>
              </a:rPr>
              <a:t>effe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s because we like to understand how events are related to one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lationships help explain why things happ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0122189[1]"/>
          <p:cNvPicPr/>
          <p:nvPr/>
        </p:nvPicPr>
        <p:blipFill>
          <a:blip r:embed="rId1"/>
          <a:stretch/>
        </p:blipFill>
        <p:spPr>
          <a:xfrm>
            <a:off x="4495680" y="2819520"/>
            <a:ext cx="25909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26E-CE41-4435-B6F9-50256555EE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62B2-96B0-4ECB-86E1-16C013C1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what makes something hap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xample: The floor was wet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what happens because of the 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xample: so, I slipped and fell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j0122155[1]"/>
          <p:cNvPicPr/>
          <p:nvPr/>
        </p:nvPicPr>
        <p:blipFill>
          <a:blip r:embed="rId1"/>
          <a:stretch/>
        </p:blipFill>
        <p:spPr>
          <a:xfrm>
            <a:off x="5943600" y="380880"/>
            <a:ext cx="2057400" cy="21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4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838-E6F8-4FAB-B197-91361DE230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745-1473-4200-AE85-40ADFC66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oticing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for words such a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join cause and effect senten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923-B9FE-4486-BCEE-AC9F63B1B9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8DB2-38EC-4A59-B744-58E353792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wo things have to happen in a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sentence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what makes something happe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000" spc="-1" strike="noStrike">
                <a:solidFill>
                  <a:srgbClr val="6600ff"/>
                </a:solidFill>
                <a:latin typeface="Times New Roman"/>
              </a:rPr>
              <a:t>EFFEC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what happens as a result of the ca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pictures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ause?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be the effect?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j0336503"/>
          <p:cNvPicPr/>
          <p:nvPr/>
        </p:nvPicPr>
        <p:blipFill>
          <a:blip r:embed="rId1"/>
          <a:stretch/>
        </p:blipFill>
        <p:spPr>
          <a:xfrm>
            <a:off x="5638680" y="5257800"/>
            <a:ext cx="1752840" cy="1295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464832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e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638680" y="4572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1008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oon will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2" descr="_4nimsfu[1]"/>
          <p:cNvPicPr/>
          <p:nvPr/>
        </p:nvPicPr>
        <p:blipFill>
          <a:blip r:embed="rId2"/>
          <a:stretch/>
        </p:blipFill>
        <p:spPr>
          <a:xfrm rot="4405200">
            <a:off x="4232880" y="4578840"/>
            <a:ext cx="1125720" cy="185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9A4-E24F-46DB-8153-19F39D84FE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5B7-6006-4D45-8FFD-263EE19F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Look at the pictures below and match th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i="1" lang="en-US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with the </a:t>
            </a:r>
            <a:r>
              <a:rPr b="0" i="1" lang="en-US" sz="36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j0117993"/>
          <p:cNvPicPr/>
          <p:nvPr/>
        </p:nvPicPr>
        <p:blipFill>
          <a:blip r:embed="rId1"/>
          <a:stretch/>
        </p:blipFill>
        <p:spPr>
          <a:xfrm>
            <a:off x="6324480" y="1981080"/>
            <a:ext cx="216216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336513"/>
          <p:cNvPicPr/>
          <p:nvPr/>
        </p:nvPicPr>
        <p:blipFill>
          <a:blip r:embed="rId2"/>
          <a:stretch/>
        </p:blipFill>
        <p:spPr>
          <a:xfrm>
            <a:off x="1219320" y="3505320"/>
            <a:ext cx="1523880" cy="179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HH01575_"/>
          <p:cNvPicPr/>
          <p:nvPr/>
        </p:nvPicPr>
        <p:blipFill>
          <a:blip r:embed="rId3"/>
          <a:stretch/>
        </p:blipFill>
        <p:spPr>
          <a:xfrm>
            <a:off x="2819520" y="2057400"/>
            <a:ext cx="76680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G00005_"/>
          <p:cNvPicPr/>
          <p:nvPr/>
        </p:nvPicPr>
        <p:blipFill>
          <a:blip r:embed="rId4"/>
          <a:stretch/>
        </p:blipFill>
        <p:spPr>
          <a:xfrm>
            <a:off x="5486400" y="426708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4382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143000" y="60120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3505320" y="3124080"/>
            <a:ext cx="213336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 flipV="1">
            <a:off x="2362320" y="3504960"/>
            <a:ext cx="41907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828800" y="5638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 JOB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BB72-2451-4315-A806-9938075C07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A2C-ADC8-45A2-B318-17718A9A4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ppens FIR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yourself, what had to happen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0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ppens SECO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yourself, what happened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fore </a:t>
            </a:r>
            <a:r>
              <a:rPr b="0" lang="en-US" sz="3000" spc="-1" strike="noStrike">
                <a:solidFill>
                  <a:srgbClr val="6600ff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In the alphabet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r>
              <a:rPr b="1" i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f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ok for clue wo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, since, so, on account of, due to the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FF67-DCAD-4C95-8CB7-3D22AF5991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EA14-8F33-460B-9AFA-B1BDB317F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ertain words joi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sentences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ought Dan a present BECAUSE it wa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birth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word that join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j0354692"/>
          <p:cNvPicPr/>
          <p:nvPr/>
        </p:nvPicPr>
        <p:blipFill>
          <a:blip r:embed="rId1"/>
          <a:stretch/>
        </p:blipFill>
        <p:spPr>
          <a:xfrm>
            <a:off x="6705720" y="480060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105520" y="29718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Dan’s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029200" y="3581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bought him a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971800" y="4648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B6D1-C59D-4FFE-8B23-5EAB541616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DDD-A006-4127-93CF-0AAA9E847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other words help to joi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sentence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ce cream was melting AS A RESULT 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hot wea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2800" spc="-1" strike="noStrike">
                <a:solidFill>
                  <a:srgbClr val="6600ff"/>
                </a:solidFill>
                <a:latin typeface="Times New Roman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joining clue word?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242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t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483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ce cream me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3244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j0319554"/>
          <p:cNvPicPr/>
          <p:nvPr/>
        </p:nvPicPr>
        <p:blipFill>
          <a:blip r:embed="rId1"/>
          <a:stretch/>
        </p:blipFill>
        <p:spPr>
          <a:xfrm>
            <a:off x="3048120" y="4343400"/>
            <a:ext cx="1814400" cy="181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j0318060"/>
          <p:cNvPicPr/>
          <p:nvPr/>
        </p:nvPicPr>
        <p:blipFill>
          <a:blip r:embed="rId2"/>
          <a:stretch/>
        </p:blipFill>
        <p:spPr>
          <a:xfrm>
            <a:off x="5410080" y="5029200"/>
            <a:ext cx="936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2:45:45Z</dcterms:created>
  <dc:creator>Jami</dc:creator>
  <dc:description/>
  <dc:language>en-US</dc:language>
  <cp:lastModifiedBy>Erica Hatt</cp:lastModifiedBy>
  <dcterms:modified xsi:type="dcterms:W3CDTF">2009-03-02T02:58:47Z</dcterms:modified>
  <cp:revision>14</cp:revision>
  <dc:subject/>
  <dc:title>Cause and Effect</dc:title>
</cp:coreProperties>
</file>